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A7B-5C5E-4EE9-82C9-A9ECB09C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36F-EED9-42E4-9687-9A890A4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AA2-6CC4-43E1-86E8-655543A9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091-BC7B-43E0-8B96-FA1D66E9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8E2-F132-4178-9855-450EA16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639-3B17-4B37-9283-666B4F1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8A8-AF97-44A2-9C32-1CF5B86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463-9B5D-4282-8B31-85A44131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44E-C107-48B6-A954-C76981F5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7A3-066D-433A-B871-7D1405E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81B-C5C2-48E2-A9F4-79BBA27A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B84-5EEA-4280-BA75-597BEA7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B8C3-9B7B-4F0C-ABEA-8B8DF06AF903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8069-3E8D-42D8-9F03-D97621DA72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7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8C7-D709-4AE9-A5A6-3A230D4EF1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27T05:40:09Z</dcterms:modified>
  <cp:revision>23</cp:revision>
  <dc:subject/>
  <dc:title>Лекция  № 11 </dc:title>
</cp:coreProperties>
</file>